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F21-AFB2-484D-9F7E-FB919A5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E41-C49A-4129-9A85-2CA0619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3D5-E602-47F9-BE87-487A7D67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9BB-778A-4101-B701-79153702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FC1-52F0-463F-868C-23204519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778-5AD2-49D9-BAAE-AC28C62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8F4-7C95-4E9A-9847-361210E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86B-C98E-4121-9009-9FBA4BAE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1F7-7D51-4869-A2F7-D1910AA9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AFE-88EF-49FA-BBA4-4C4CD39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954-25E6-45DC-BFC5-445C0C1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1A5-547B-477B-90EA-5860A82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409-FE23-43C9-B3A5-D993EBA7D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853776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066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609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3440" y="578160"/>
            <a:ext cx="6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7240" y="5781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6847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ll P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3960" y="608400"/>
            <a:ext cx="122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95280"/>
            <a:ext cx="106668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057400"/>
            <a:ext cx="1066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19520"/>
            <a:ext cx="10666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581280"/>
            <a:ext cx="106668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0666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0880" y="312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5238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23880"/>
            <a:ext cx="106704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5238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2960" y="146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15480" y="146124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82680" y="176616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3400" y="252828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16560" y="22233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5840" y="2985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e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32900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65440" y="374724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81240" y="40521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5480" y="45093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3760" y="48142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15920" y="16898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8160" y="19947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840" y="19947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9080" y="19947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22:17:19Z</dcterms:created>
  <dc:creator>Hien(Henry)Tran</dc:creator>
  <dc:description/>
  <dc:language>en-US</dc:language>
  <cp:lastModifiedBy>Hien(Henry)Tran</cp:lastModifiedBy>
  <dcterms:modified xsi:type="dcterms:W3CDTF">1998-12-07T23:56:14Z</dcterms:modified>
  <cp:revision>2</cp:revision>
  <dc:subject/>
  <dc:title>No Slide Title</dc:title>
</cp:coreProperties>
</file>